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png" ContentType="image/png"/>
  <Override PartName="/ppt/media/image11.png" ContentType="image/png"/>
  <Override PartName="/ppt/media/image7.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6A69-7BDB-4EE1-98E5-7D16D4DE5C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w York, N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0 East 70th Street, New York, NY 1002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t. 191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architect Sherrill Whiton back when interior design was beginning to turn into distinct and recognized profess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 is located on the corner of East 97th Street and Third Avenu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ighborhood is full of shops and restaurants, and the people itself offers plenty of opportunities to make friends, as it houses students from a variety of New York City colleg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idence hall features doubles and triples, all with their own bathroom, and provides 24-hour security and concierge servic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student room is equipped with a refrigerator, microwave oven, and 26-inch DVD-equipped, flat-screen TV. There is free cable, free local and national phone service, and free high-speed internet. Rooms come fully furnished and the facility has on site a full-service gym, game room, common rooms, laundry room, quiet rooms, and computer kiosk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Progra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Most of the programs are interior design related but they also have classes like sustainable studies, and technical theatre/ theatre design and technology</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FAD4-6AD0-42CB-BC88-96BC8098C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1783-A4D1-4F15-A7D4-21C1A435A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FA- Provides students with the professional-level preparation to become practicing interior designers.  In combination with the required professional experience, the courses also satisfies the educational requirements for a membership in the national and local interior design associations and allows graduates to sit for the qualifying exams for interior design certification in many st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A- Provides students with an undergraduate liberal arts degree in art history with a special focus on the interior environment and the objects it contai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of AS- Degree in interior design is a two year program focusing on core studies in a range of residential and commercial design studios, technology and graphic communications.  Courses in architecture and related history, decorative arts, and the liberal arts are also in this curriculu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Certificate program provides an introduction to the field of interior design and focuses on fundamental skills and the knowledge in interior design, architecture, and the visual and decorative a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L- Degree program is a three-year, full-time program, formed to provide students possessing a degree in an unrelated field with the professional-level education necessary to become licensed interior design practitione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P- Degree program is a two-year, full-time program with a focus on advanced study in studio and academic research in history, theory, and methods as they relate interdisciplinary to interior desig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 One-year post-professional program focused on specialized knowledge, thinking, and skills, structured to prepare design professionals to take leadership roles in developing and maintaining sustainable interior spaces that will impact the world in a positive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D- One-year post-professional program providing education in natural and artificial lights focused on the interior environment, exposing students to a range of knowledge and skills that provide graduates with a balance of conceptual and practical techniques for successful design executio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D9AC-7521-45B4-A17B-1BD1241F8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has a core academic curriculum that all students must complete.</a:t>
            </a:r>
            <a:br>
              <a:rPr sz="1200"/>
            </a:br>
            <a:r>
              <a:rPr b="0" lang="en-US" sz="1200" spc="-1" strike="noStrike">
                <a:solidFill>
                  <a:srgbClr val="000000"/>
                </a:solidFill>
                <a:latin typeface="Calibri"/>
              </a:rPr>
              <a:t>-math / science requirement for all students.</a:t>
            </a:r>
            <a:br>
              <a:rPr sz="1200"/>
            </a:br>
            <a:r>
              <a:rPr b="0" lang="en-US" sz="1200" spc="-1" strike="noStrike">
                <a:solidFill>
                  <a:srgbClr val="000000"/>
                </a:solidFill>
                <a:latin typeface="Calibri"/>
              </a:rPr>
              <a:t>-computer requirement for all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niors must complete a senior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rograms very in length depending on what your intended degree is as talked about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are internships available through a special program offered through the school</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8203-7251-4CC7-82F4-260EEF701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5392-A2B0-4325-A415-E6C6F3073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8C3D5-E083-4C50-A314-48319305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95F3-6D8B-4B7E-A5E0-5C0CBC60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201C3-0BA4-4783-BFE1-998CD0620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E6E53-2621-4F8D-BA21-89CDB42DC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7DB7E-3EC9-4DEF-ACFA-0A08979CC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79AC8-188D-4DE7-A64C-385866EBF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081CC-40DB-4555-A593-3CDDAC405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9DDB7-441B-4E66-B057-308649AC6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80E3F-BC2D-4B2F-A6A4-C166BF1BB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60FCA-CB54-45AF-A990-75971BC0D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4A5F-C37C-49FA-90F5-F9A4677D8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D5639-62C8-448D-A607-6A16E395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E844-5B00-4B09-A80E-A2447EE6F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5E8D6-0BBC-4849-8EC2-CD724B542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E4810-178F-48FE-8329-4866253A6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200CC-35BE-4D8A-BE55-8C801621A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919C5-93D2-494A-A317-9F108CB4C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002C78-B118-4DCA-AF24-051FA16F7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48466-FE45-4E38-89E8-CA12A03BB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5D51C-B551-4772-9ED3-104E4F2CF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A6C9B-1AB3-4BB4-BE5F-6A6DB12B1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E1617-A711-41C6-99F2-C79DDD78D8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B6D9-B4FB-4CCA-9970-02B28D5B0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78FDA-5D59-4EC8-90DF-697A12822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0C94B-35D7-4CCB-A9A2-F841D743A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111AF-9772-49E0-A059-802DD680F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F2F19-DD51-418D-94DF-660342ED3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4FC59-CE3F-4CE8-A9D0-E3C83A27D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0B95BA-9730-4983-B29E-7B1BB6885D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3D7BFF-2626-4E49-882A-8135CB5BCA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44E161-985A-4C51-A929-BB6A77C46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D4FD2-1BC7-40C3-B666-8FACEC152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CEF4E-11E1-43BB-B33C-9F2862950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4ED4-0948-4334-B053-1495A7C7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66F29-5D46-4340-9D11-93B204550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48178-945A-4A71-993F-591ADFD67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15FDD-F044-4164-9318-9B9962309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76BEA-037D-483E-9EB2-0BCEE9AB8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35077-FAB2-4484-93F4-A132A9AF3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37C87-DB73-4750-A28A-377635970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699DB-F124-43B0-9125-6A27FF1DC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5CC98-D81B-4937-88CC-5FF4E6C18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F4BB43-FD8A-4635-AB37-B3BC8EEB9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0E2AAE-BD08-4A90-92A2-18EF1A411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B27F-5CE2-4E44-A732-1F2CED4C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B93BF-EDBC-4421-A9D0-3DD34F9A12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E0C7E-7FE1-4C8B-818A-87B82D949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61D9F-FF7B-4541-A979-20F4A078F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34453-8B2F-40A1-B828-16446D2F0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135A1-6A04-4EE6-94C0-37A95394B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7F667-CBC6-4F3F-B98F-07C1943FB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8DB63-EB74-4421-926F-57ACE6A4A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6CE35-4811-48EA-9631-93267DFE6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BD3ED-FD4D-4E2A-B502-4D1CEA2AE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95C83-046D-47B8-8CB6-F10A63F3E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ADE4-E2FC-496A-BD67-354E7AC1B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974344-3C70-4866-99AA-1BF472E1FA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19419-5F77-450F-9A96-B8AD88CE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7E88-EFC0-43D4-BFF8-1DDBF79C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77C5-911C-407E-9C41-DBC116962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F95E-A20B-4A5B-BAD5-7DED3DAB585A}"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1496-C2A8-4460-BDF9-8ACB7437EFB7}"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F33D-EAF1-4F9E-9180-A60F7C798B9B}"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ef5f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ef5f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ef5fa"/>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ef5f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40A7-5F62-4185-9FBF-E6F334744075}" type="slidenum">
              <a:rPr b="0" lang="en-US" sz="1100" spc="-1" strike="noStrike">
                <a:solidFill>
                  <a:srgbClr val="def5f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9F77-599A-4825-B930-2E67D507567B}"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careercruising.com/USSchool/UGSchoolProfile.aspx?LoginID=06e96f3f-728d-47a6-aa60-5eb43640b1ac-&amp;INUN_ID=7771&amp;step=step1" TargetMode="External"/><Relationship Id="rId3" Type="http://schemas.openxmlformats.org/officeDocument/2006/relationships/hyperlink" Target="http://www.nysid.edu/"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297240" y="530280"/>
            <a:ext cx="560880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y: Allie Wit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w York, NY</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t. 1916</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using availabl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programs</a:t>
            </a:r>
            <a:endParaRPr b="0" lang="en-US" sz="2600" spc="-1" strike="noStrike">
              <a:solidFill>
                <a:srgbClr val="000000"/>
              </a:solidFill>
              <a:latin typeface="Trebuchet MS"/>
            </a:endParaRPr>
          </a:p>
        </p:txBody>
      </p:sp>
      <p:pic>
        <p:nvPicPr>
          <p:cNvPr id="231" name="Picture 4" descr="http://www.nysid.edu/view.image?Id=446"/>
          <p:cNvPicPr/>
          <p:nvPr/>
        </p:nvPicPr>
        <p:blipFill>
          <a:blip r:embed="rId2"/>
          <a:stretch/>
        </p:blipFill>
        <p:spPr>
          <a:xfrm>
            <a:off x="4191120" y="4395960"/>
            <a:ext cx="3962160" cy="2462040"/>
          </a:xfrm>
          <a:prstGeom prst="rect">
            <a:avLst/>
          </a:prstGeom>
          <a:ln w="0">
            <a:noFill/>
          </a:ln>
        </p:spPr>
      </p:pic>
      <p:pic>
        <p:nvPicPr>
          <p:cNvPr id="232" name="Picture 8" descr="http://i3.squidoocdn.com/resize/squidoo_images/-1/lens6736702_1251674678New_York_State_Outline.jpg"/>
          <p:cNvPicPr/>
          <p:nvPr/>
        </p:nvPicPr>
        <p:blipFill>
          <a:blip r:embed="rId3"/>
          <a:stretch/>
        </p:blipFill>
        <p:spPr>
          <a:xfrm>
            <a:off x="5257800" y="0"/>
            <a:ext cx="2838600" cy="2247840"/>
          </a:xfrm>
          <a:prstGeom prst="rect">
            <a:avLst/>
          </a:prstGeom>
          <a:ln w="0">
            <a:noFill/>
          </a:ln>
        </p:spPr>
      </p:pic>
      <p:pic>
        <p:nvPicPr>
          <p:cNvPr id="233" name="Picture 10" descr="http://www.nysid.edu/view.image?Id=680"/>
          <p:cNvPicPr/>
          <p:nvPr/>
        </p:nvPicPr>
        <p:blipFill>
          <a:blip r:embed="rId4"/>
          <a:stretch/>
        </p:blipFill>
        <p:spPr>
          <a:xfrm>
            <a:off x="6477120" y="2057400"/>
            <a:ext cx="1666800" cy="238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say requir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nimum high school GPA 2.8 on a 4.0 sca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rtfolio with 10 example of artwork</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letters of recommend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SAT are required for some course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http://writes2escape.files.wordpress.com/2010/08/2006_accepted_logo.jpg"/>
          <p:cNvPicPr/>
          <p:nvPr/>
        </p:nvPicPr>
        <p:blipFill>
          <a:blip r:embed="rId2"/>
          <a:stretch/>
        </p:blipFill>
        <p:spPr>
          <a:xfrm>
            <a:off x="4035600" y="-6480"/>
            <a:ext cx="4114800" cy="9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http://www.nysid.edu/view.image?Id=687"/>
          <p:cNvPicPr/>
          <p:nvPr/>
        </p:nvPicPr>
        <p:blipFill>
          <a:blip r:embed="rId1"/>
          <a:stretch/>
        </p:blipFill>
        <p:spPr>
          <a:xfrm>
            <a:off x="6781680" y="1523880"/>
            <a:ext cx="1943280" cy="2819520"/>
          </a:xfrm>
          <a:prstGeom prst="rect">
            <a:avLst/>
          </a:prstGeom>
          <a:ln w="0">
            <a:noFill/>
          </a:ln>
        </p:spPr>
      </p:pic>
      <p:pic>
        <p:nvPicPr>
          <p:cNvPr id="238" name="Title 1" descr=""/>
          <p:cNvPicPr/>
          <p:nvPr/>
        </p:nvPicPr>
        <p:blipFill>
          <a:blip r:embed="rId2"/>
          <a:stretch/>
        </p:blipFill>
        <p:spPr>
          <a:xfrm>
            <a:off x="212760" y="317520"/>
            <a:ext cx="7493040" cy="115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der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Fine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ociate of Applied Science</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ic Interior Design</a:t>
            </a:r>
            <a:endParaRPr b="0" lang="en-US" sz="2300" spc="-1" strike="noStrike">
              <a:solidFill>
                <a:srgbClr val="6c6c6c"/>
              </a:solidFill>
              <a:latin typeface="Trebuchet MS"/>
            </a:endParaRPr>
          </a:p>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rofessional Leve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ost-Professiona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Sustainable Interior Environmen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Interior Lighting Design</a:t>
            </a:r>
            <a:endParaRPr b="0" lang="en-US" sz="2300" spc="-1" strike="noStrike">
              <a:solidFill>
                <a:srgbClr val="6c6c6c"/>
              </a:solidFill>
              <a:latin typeface="Trebuchet MS"/>
            </a:endParaRPr>
          </a:p>
        </p:txBody>
      </p:sp>
      <p:pic>
        <p:nvPicPr>
          <p:cNvPr id="240" name="Picture 8" descr="http://www.nysid.edu/view.image?Id=697"/>
          <p:cNvPicPr/>
          <p:nvPr/>
        </p:nvPicPr>
        <p:blipFill>
          <a:blip r:embed="rId3"/>
          <a:stretch/>
        </p:blipFill>
        <p:spPr>
          <a:xfrm>
            <a:off x="5410080" y="0"/>
            <a:ext cx="2743200" cy="18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39680" y="298440"/>
            <a:ext cx="8607240" cy="115884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rse work</a:t>
            </a:r>
            <a:endParaRPr b="0" lang="en-US" sz="2600" spc="-1" strike="noStrike">
              <a:solidFill>
                <a:srgbClr val="000000"/>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66 credits are required to graduate with an associate degree.</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132 credits are required to graduate with a bachelor's degree. </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Core academic curriculum</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eniors</a:t>
            </a:r>
            <a:endParaRPr b="0" lang="en-US" sz="2300" spc="-1" strike="noStrike">
              <a:solidFill>
                <a:srgbClr val="6c6c6c"/>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ery in length</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ship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2"/>
              </a:rPr>
              <a:t>http://www.careercruising.com/USSchool/UGSchoolProfile.aspx?LoginID=06e96f3f-728d-47a6-aa60-5eb43640b1ac-&amp;INUN_ID=7771&amp;step=step1</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3"/>
              </a:rPr>
              <a:t>http://www.nysid.edu/</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53:39Z</dcterms:created>
  <dc:creator>MFisher</dc:creator>
  <dc:description/>
  <dc:language>en-US</dc:language>
  <cp:lastModifiedBy>MFisher</cp:lastModifiedBy>
  <dcterms:modified xsi:type="dcterms:W3CDTF">2011-05-11T17:30:42Z</dcterms:modified>
  <cp:revision>15</cp:revision>
  <dc:subject/>
  <dc:title>Slide 1</dc:title>
</cp:coreProperties>
</file>